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9AD-1E2C-470E-B732-31380E40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CC0-D245-40CE-9879-5F74A030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29D-D357-4478-A887-FFB56FCA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8DC-A090-4285-9281-AB68B8FF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B1AE-023A-4083-B312-0E1436D4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FC3E-B38D-41CD-BA8E-8916515F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471B-44D6-443B-B082-9EEA5556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8EA0-FE0E-416E-A5C3-C9FE2D5B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9B16-159D-41EE-B67D-82136ABD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898B-5860-45B2-B4DF-AB9F9666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A845-2E55-45FC-AC85-FE2726F7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994-72D3-44B7-8E8F-B836FBAF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0693-625F-4926-A05B-4F8170B0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5597-9564-449F-ABDD-DB21AABE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E563-404E-499C-82A3-7C0AF769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CC0C-B0DE-475B-8546-5DBC444A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4B3F-8B60-4C50-B0C2-95348644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144-783E-4700-B1D1-F1988672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A47-609D-4F49-A70D-F9F6A608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CE4-8084-4848-852B-BC21A0D9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BA0-C786-4F62-87F2-393994BA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602-3C83-4902-AFA2-5A6189A5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A7C-BE0B-4938-B1CA-F8CB3287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478-4268-4749-9D06-AC2B78B7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62BB-19D6-4134-B7E3-A923B419C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8BF-88B1-46B7-8A16-78E62E2F087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lotte Danielson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Four Domains of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aching Responsibility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7680" y="1828440"/>
            <a:ext cx="8896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a: Demonstrating Knowledge of Content and Pedagog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b: Demonstrating Knowledge of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c: Selecting Instructional Go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d: Demonstrating Knowledge of Resourc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e: Designing Coherent Instru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f: Assessing Student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057400"/>
            <a:ext cx="8896320" cy="41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a: Creating an Environment of Respect and Rappor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b: Establishing a Culture for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c: Managing Classroom Procedur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d: Managing Student Behavi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e: Organizing Physical Spa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1981080"/>
            <a:ext cx="889632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a: Communicating Clearly and Accurate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b: Using Questioning and Discussion Techniqu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c: Engaging Students in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d: Providing Feedback to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e: Demonstrating Flexibility and Responsiven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7680" y="2133720"/>
            <a:ext cx="8896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a: Reflecting on Teach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b: Maintaining Accurate Record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c: Communicating with Famil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d: Contributing to the School and Distri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e: Growing and Developing Professional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f: Showing Professionalis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2:57:56Z</dcterms:created>
  <dc:creator>Registered User</dc:creator>
  <dc:description/>
  <dc:language>en-US</dc:language>
  <cp:lastModifiedBy>Karen Verkler</cp:lastModifiedBy>
  <dcterms:modified xsi:type="dcterms:W3CDTF">2014-08-03T21:29:18Z</dcterms:modified>
  <cp:revision>3</cp:revision>
  <dc:subject/>
  <dc:title>The Four Domains of  Teaching Responsibility</dc:title>
</cp:coreProperties>
</file>